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B311-69D5-4879-93FC-3B74EF4CDAF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3468-042C-4F22-A5BF-F884E263EAD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ED3F-7E9B-4B69-BE39-6F5DEE8178E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CFC2-6310-41C3-AF24-9E70CA99ED1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9C7D-1040-4894-BF08-58AEF86A2F5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6365-E3D8-4BBE-AFE4-8C1D5A72A11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2A71-D43E-49A8-8B80-E0157E3352D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CAD8-A774-4DC6-B67C-A5C3BAA30A7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3740-4515-4207-B708-E2CE0AF11B6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7A81-6CAF-4C4B-B7B4-5E8FFBE0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98E9-6CE8-4582-A911-CFEC31B8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EC7-C8AC-4483-96C3-5027DCC5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3A6-D82C-4768-9803-62150171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F53F-33ED-4F01-A569-CE6567D6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0706-3F1D-47F0-A02E-13E4992D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8B3-EF58-4059-B830-8137CA70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B459-5926-4006-B36B-AC886893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FE30-F45D-4667-AF2A-35972760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3EF-E611-438D-9139-79DB1D14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B125-2492-419F-BD07-B99E57E0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6AD-0117-4961-BB73-37F0451F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358C-BB83-4892-A470-85F6A2DA841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H0512272\Pictures\CLARO4.png"/>
          <p:cNvPicPr/>
          <p:nvPr/>
        </p:nvPicPr>
        <p:blipFill>
          <a:blip r:embed="rId2"/>
          <a:stretch/>
        </p:blipFill>
        <p:spPr>
          <a:xfrm>
            <a:off x="7164360" y="6099120"/>
            <a:ext cx="1987560" cy="785880"/>
          </a:xfrm>
          <a:prstGeom prst="rect">
            <a:avLst/>
          </a:prstGeom>
          <a:ln w="0">
            <a:noFill/>
          </a:ln>
        </p:spPr>
      </p:pic>
      <p:sp>
        <p:nvSpPr>
          <p:cNvPr id="42" name="7 Conector recto"/>
          <p:cNvSpPr/>
          <p:nvPr/>
        </p:nvSpPr>
        <p:spPr>
          <a:xfrm>
            <a:off x="108000" y="115920"/>
            <a:ext cx="892800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8 Conector recto"/>
          <p:cNvSpPr/>
          <p:nvPr/>
        </p:nvSpPr>
        <p:spPr>
          <a:xfrm>
            <a:off x="108000" y="115920"/>
            <a:ext cx="0" cy="66261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9 Conector recto"/>
          <p:cNvSpPr/>
          <p:nvPr/>
        </p:nvSpPr>
        <p:spPr>
          <a:xfrm>
            <a:off x="9036000" y="115920"/>
            <a:ext cx="0" cy="65530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0 Conector recto"/>
          <p:cNvSpPr/>
          <p:nvPr/>
        </p:nvSpPr>
        <p:spPr>
          <a:xfrm>
            <a:off x="108000" y="6742080"/>
            <a:ext cx="734364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1 Recortar rectángulo de esquina sencilla"/>
          <p:cNvGrpSpPr/>
          <p:nvPr/>
        </p:nvGrpSpPr>
        <p:grpSpPr>
          <a:xfrm>
            <a:off x="55440" y="6424560"/>
            <a:ext cx="1981440" cy="397080"/>
            <a:chOff x="55440" y="6424560"/>
            <a:chExt cx="1981440" cy="397080"/>
          </a:xfrm>
        </p:grpSpPr>
        <p:pic>
          <p:nvPicPr>
            <p:cNvPr id="47" name="11 Recortar rectángulo de esquina sencilla" descr=""/>
            <p:cNvPicPr/>
            <p:nvPr/>
          </p:nvPicPr>
          <p:blipFill>
            <a:blip r:embed="rId3"/>
            <a:stretch/>
          </p:blipFill>
          <p:spPr>
            <a:xfrm>
              <a:off x="55440" y="6424560"/>
              <a:ext cx="198144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08000" y="6524640"/>
              <a:ext cx="18000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12 Conector recto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11 Rectángulo"/>
          <p:cNvSpPr/>
          <p:nvPr/>
        </p:nvSpPr>
        <p:spPr>
          <a:xfrm>
            <a:off x="755640" y="184464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3 CuadroTexto"/>
          <p:cNvSpPr/>
          <p:nvPr/>
        </p:nvSpPr>
        <p:spPr>
          <a:xfrm>
            <a:off x="1945440" y="189000"/>
            <a:ext cx="49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SUBASTA BANDA 900 MHz Y 19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9 Rectángulo redondeado"/>
          <p:cNvGrpSpPr/>
          <p:nvPr/>
        </p:nvGrpSpPr>
        <p:grpSpPr>
          <a:xfrm>
            <a:off x="341280" y="665280"/>
            <a:ext cx="8534520" cy="803160"/>
            <a:chOff x="341280" y="665280"/>
            <a:chExt cx="8534520" cy="803160"/>
          </a:xfrm>
        </p:grpSpPr>
        <p:pic>
          <p:nvPicPr>
            <p:cNvPr id="98" name="9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41280" y="665280"/>
              <a:ext cx="853452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26960" y="723960"/>
              <a:ext cx="83613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400" spc="-1" strike="noStrike">
                  <a:solidFill>
                    <a:srgbClr val="ffffff"/>
                  </a:solidFill>
                  <a:latin typeface="Arial"/>
                </a:rPr>
                <a:t>Principales Necesida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2 Diagrama" descr=""/>
          <p:cNvPicPr/>
          <p:nvPr/>
        </p:nvPicPr>
        <p:blipFill>
          <a:blip r:embed="rId2"/>
          <a:stretch/>
        </p:blipFill>
        <p:spPr>
          <a:xfrm>
            <a:off x="384120" y="1609560"/>
            <a:ext cx="8594640" cy="45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CuadroTexto"/>
          <p:cNvSpPr/>
          <p:nvPr/>
        </p:nvSpPr>
        <p:spPr>
          <a:xfrm>
            <a:off x="2609640" y="189000"/>
            <a:ext cx="36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SUBASTA BANDA 19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2 Rectángulo redondeado"/>
          <p:cNvGrpSpPr/>
          <p:nvPr/>
        </p:nvGrpSpPr>
        <p:grpSpPr>
          <a:xfrm>
            <a:off x="341280" y="665280"/>
            <a:ext cx="8534520" cy="803160"/>
            <a:chOff x="341280" y="665280"/>
            <a:chExt cx="8534520" cy="803160"/>
          </a:xfrm>
        </p:grpSpPr>
        <p:pic>
          <p:nvPicPr>
            <p:cNvPr id="103" name="12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41280" y="665280"/>
              <a:ext cx="853452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26960" y="723960"/>
              <a:ext cx="83613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400" spc="-1" strike="noStrike">
                  <a:solidFill>
                    <a:srgbClr val="ffffff"/>
                  </a:solidFill>
                  <a:latin typeface="Arial"/>
                </a:rPr>
                <a:t>Modificación de Topes de Espect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345960" y="1484280"/>
            <a:ext cx="8329680" cy="3529080"/>
          </a:xfrm>
          <a:prstGeom prst="rect">
            <a:avLst/>
          </a:prstGeom>
          <a:ln w="0">
            <a:noFill/>
          </a:ln>
        </p:spPr>
      </p:pic>
      <p:grpSp>
        <p:nvGrpSpPr>
          <p:cNvPr id="106" name="1 Rectángulo"/>
          <p:cNvGrpSpPr/>
          <p:nvPr/>
        </p:nvGrpSpPr>
        <p:grpSpPr>
          <a:xfrm>
            <a:off x="73080" y="5200560"/>
            <a:ext cx="9070920" cy="1333440"/>
            <a:chOff x="73080" y="5200560"/>
            <a:chExt cx="9070920" cy="1333440"/>
          </a:xfrm>
        </p:grpSpPr>
        <p:pic>
          <p:nvPicPr>
            <p:cNvPr id="107" name="1 Rectángulo" descr=""/>
            <p:cNvPicPr/>
            <p:nvPr/>
          </p:nvPicPr>
          <p:blipFill>
            <a:blip r:embed="rId3"/>
            <a:stretch/>
          </p:blipFill>
          <p:spPr>
            <a:xfrm>
              <a:off x="73080" y="5200560"/>
              <a:ext cx="907092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79280" y="5229360"/>
              <a:ext cx="885672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ODIFICAR LOS TOPES MAXIMOS DE ESPECTRO, con el propósito de garantizar el derecho a la igualdad y a la libre concurrencia de todos los operadores. Así las cosas, podrían entrar a subastar espectro en  un único segmento de 2 x 10 MH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3 CuadroTexto"/>
          <p:cNvSpPr/>
          <p:nvPr/>
        </p:nvSpPr>
        <p:spPr>
          <a:xfrm>
            <a:off x="2609640" y="189000"/>
            <a:ext cx="36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SUBASTA BANDA 19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12 Rectángulo redondeado"/>
          <p:cNvGrpSpPr/>
          <p:nvPr/>
        </p:nvGrpSpPr>
        <p:grpSpPr>
          <a:xfrm>
            <a:off x="341280" y="665280"/>
            <a:ext cx="8534520" cy="803160"/>
            <a:chOff x="341280" y="665280"/>
            <a:chExt cx="8534520" cy="803160"/>
          </a:xfrm>
        </p:grpSpPr>
        <p:pic>
          <p:nvPicPr>
            <p:cNvPr id="111" name="12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341280" y="665280"/>
              <a:ext cx="853452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26960" y="723960"/>
              <a:ext cx="83613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400" spc="-1" strike="noStrike">
                  <a:solidFill>
                    <a:srgbClr val="ffffff"/>
                  </a:solidFill>
                  <a:latin typeface="Arial"/>
                </a:rPr>
                <a:t>Reorganización de la banda 1900 MH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2 Diagrama" descr=""/>
          <p:cNvPicPr/>
          <p:nvPr/>
        </p:nvPicPr>
        <p:blipFill>
          <a:blip r:embed="rId2"/>
          <a:stretch/>
        </p:blipFill>
        <p:spPr>
          <a:xfrm>
            <a:off x="-6480" y="1195560"/>
            <a:ext cx="915048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CuadroTexto"/>
          <p:cNvSpPr/>
          <p:nvPr/>
        </p:nvSpPr>
        <p:spPr>
          <a:xfrm>
            <a:off x="2645640" y="1890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SUBASTA BANDA 900 MH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9 Rectángulo redondeado"/>
          <p:cNvGrpSpPr/>
          <p:nvPr/>
        </p:nvGrpSpPr>
        <p:grpSpPr>
          <a:xfrm>
            <a:off x="414360" y="579600"/>
            <a:ext cx="8400960" cy="914400"/>
            <a:chOff x="414360" y="579600"/>
            <a:chExt cx="8400960" cy="914400"/>
          </a:xfrm>
        </p:grpSpPr>
        <p:pic>
          <p:nvPicPr>
            <p:cNvPr id="116" name="9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414360" y="579600"/>
              <a:ext cx="8400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06520" y="649440"/>
              <a:ext cx="8211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BLOQUES A SUBASTA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10 Rectángulo redondeado"/>
          <p:cNvGrpSpPr/>
          <p:nvPr/>
        </p:nvGrpSpPr>
        <p:grpSpPr>
          <a:xfrm>
            <a:off x="274680" y="1596960"/>
            <a:ext cx="2840040" cy="4791240"/>
            <a:chOff x="274680" y="1596960"/>
            <a:chExt cx="2840040" cy="4791240"/>
          </a:xfrm>
        </p:grpSpPr>
        <p:pic>
          <p:nvPicPr>
            <p:cNvPr id="119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274680" y="1596960"/>
              <a:ext cx="2840040" cy="47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61880" y="1762200"/>
              <a:ext cx="2463840" cy="44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En el ARTICULO 2, se plantea que esta banda se subastará </a:t>
              </a:r>
              <a:r>
                <a:rPr b="1" lang="es-E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en un solo segmento de 2 x 10 MHz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Igualmente, limita  la compra máxima, en función de los topes de espectro vigentes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12 Rectángulo redondeado"/>
          <p:cNvSpPr/>
          <p:nvPr/>
        </p:nvSpPr>
        <p:spPr>
          <a:xfrm>
            <a:off x="3564000" y="1628640"/>
            <a:ext cx="5194080" cy="46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on la  propuesta se excluye de la subasta a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COMCEL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y a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TELEFONICA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La medida de los topes afecta de manera directa, la concurrencia de estos operadores a la suba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e afectan derechos fundamentales, como el de igualdad y otros derechos constitucionales, como el de la libre competencia en la suba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odrían subastar c/u hasta 5 MHz de espectro en esta banda, para llegar al tope máximo</a:t>
            </a: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CuadroTexto"/>
          <p:cNvSpPr/>
          <p:nvPr/>
        </p:nvSpPr>
        <p:spPr>
          <a:xfrm>
            <a:off x="1923840" y="189000"/>
            <a:ext cx="500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SUBASTA BANDA 900 MHz y 1900 MH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9 Rectángulo redondeado"/>
          <p:cNvGrpSpPr/>
          <p:nvPr/>
        </p:nvGrpSpPr>
        <p:grpSpPr>
          <a:xfrm>
            <a:off x="414360" y="1023840"/>
            <a:ext cx="8400960" cy="1054080"/>
            <a:chOff x="414360" y="1023840"/>
            <a:chExt cx="8400960" cy="1054080"/>
          </a:xfrm>
        </p:grpSpPr>
        <p:pic>
          <p:nvPicPr>
            <p:cNvPr id="124" name="9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414360" y="1023840"/>
              <a:ext cx="84009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14440" y="1098720"/>
              <a:ext cx="81979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VENTAJA COMPETITIVA DE CIERTOS PROVEEDO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8 Rectángulo redondeado"/>
          <p:cNvSpPr/>
          <p:nvPr/>
        </p:nvSpPr>
        <p:spPr>
          <a:xfrm>
            <a:off x="468360" y="2205000"/>
            <a:ext cx="8289720" cy="388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alibri"/>
              </a:rPr>
              <a:t>Se evidencia que con el esquema de subasta planteado, algunos proveedores que no cuentan con espectro asignado en bandas bajas, podrían acceder a un segmento de mayor tamaño, no obstante ser los operadores que cuentan con mayor cantidad de espectro asignado en bandas altas y menor número de usuari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CuadroTexto"/>
          <p:cNvSpPr/>
          <p:nvPr/>
        </p:nvSpPr>
        <p:spPr>
          <a:xfrm>
            <a:off x="1923840" y="189000"/>
            <a:ext cx="500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  <a:ea typeface="Arial"/>
              </a:rPr>
              <a:t>SUBASTA BANDA 900 MHz y 1900 MH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9 Rectángulo redondeado"/>
          <p:cNvGrpSpPr/>
          <p:nvPr/>
        </p:nvGrpSpPr>
        <p:grpSpPr>
          <a:xfrm>
            <a:off x="414360" y="560520"/>
            <a:ext cx="8400960" cy="639720"/>
            <a:chOff x="414360" y="560520"/>
            <a:chExt cx="8400960" cy="639720"/>
          </a:xfrm>
        </p:grpSpPr>
        <p:pic>
          <p:nvPicPr>
            <p:cNvPr id="129" name="9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414360" y="560520"/>
              <a:ext cx="84009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87440" y="630360"/>
              <a:ext cx="82519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VENTAJA COMPETITIVA DE CIERTOS PROVEEDO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1" name=""/>
          <p:cNvGraphicFramePr/>
          <p:nvPr/>
        </p:nvGraphicFramePr>
        <p:xfrm>
          <a:off x="291960" y="2655720"/>
          <a:ext cx="8601120" cy="3076920"/>
        </p:xfrm>
        <a:graphic>
          <a:graphicData uri="http://schemas.openxmlformats.org/drawingml/2006/table">
            <a:tbl>
              <a:tblPr/>
              <a:tblGrid>
                <a:gridCol w="1241640"/>
                <a:gridCol w="1243080"/>
                <a:gridCol w="1446120"/>
                <a:gridCol w="1444680"/>
                <a:gridCol w="1612800"/>
                <a:gridCol w="1612800"/>
              </a:tblGrid>
              <a:tr h="444600"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N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GO /UNE/ET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T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T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+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+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42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J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40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ESPEC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 o 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 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32" name="3 Rectángulo"/>
          <p:cNvSpPr/>
          <p:nvPr/>
        </p:nvSpPr>
        <p:spPr>
          <a:xfrm>
            <a:off x="276120" y="5846760"/>
            <a:ext cx="846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CO" sz="1400" spc="-1" strike="noStrike">
                <a:solidFill>
                  <a:srgbClr val="000000"/>
                </a:solidFill>
                <a:latin typeface="Arial"/>
                <a:ea typeface="Arial"/>
              </a:rPr>
              <a:t>(*) Potencial de espectro a adquirir, dependiendo del resultado de la subasta bajo las actuales condiciones publicadas en el borrador de Resolu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4 Rectángulo redondeado"/>
          <p:cNvGrpSpPr/>
          <p:nvPr/>
        </p:nvGrpSpPr>
        <p:grpSpPr>
          <a:xfrm>
            <a:off x="237960" y="1163520"/>
            <a:ext cx="8577360" cy="1408320"/>
            <a:chOff x="237960" y="1163520"/>
            <a:chExt cx="8577360" cy="1408320"/>
          </a:xfrm>
        </p:grpSpPr>
        <p:pic>
          <p:nvPicPr>
            <p:cNvPr id="134" name="4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237960" y="1163520"/>
              <a:ext cx="857736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355680" y="1260360"/>
              <a:ext cx="833904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8 Rectángulo redondeado"/>
          <p:cNvSpPr/>
          <p:nvPr/>
        </p:nvSpPr>
        <p:spPr>
          <a:xfrm>
            <a:off x="200160" y="1193760"/>
            <a:ext cx="87436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Se evidencia el potencial desbalance en que podría generarse bajo el esquema propuesto, derivado de la concentración de espectro que actualmente tienen TIGO – UNE y ETB, sumando a la posibilidad que tienen de acceder a la totalidad de los 20 MHz de la banda de 900 MH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9 Rectángulo redondeado"/>
          <p:cNvGrpSpPr/>
          <p:nvPr/>
        </p:nvGrpSpPr>
        <p:grpSpPr>
          <a:xfrm>
            <a:off x="444600" y="944640"/>
            <a:ext cx="8400960" cy="639720"/>
            <a:chOff x="444600" y="944640"/>
            <a:chExt cx="8400960" cy="639720"/>
          </a:xfrm>
        </p:grpSpPr>
        <p:pic>
          <p:nvPicPr>
            <p:cNvPr id="138" name="9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444600" y="944640"/>
              <a:ext cx="84009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9120" y="1015920"/>
              <a:ext cx="82519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BLIGACIONES DE H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4 Rectángulo redondeado"/>
          <p:cNvGrpSpPr/>
          <p:nvPr/>
        </p:nvGrpSpPr>
        <p:grpSpPr>
          <a:xfrm>
            <a:off x="237960" y="1163520"/>
            <a:ext cx="8577360" cy="1408320"/>
            <a:chOff x="237960" y="1163520"/>
            <a:chExt cx="8577360" cy="1408320"/>
          </a:xfrm>
        </p:grpSpPr>
        <p:pic>
          <p:nvPicPr>
            <p:cNvPr id="141" name="4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237960" y="1163520"/>
              <a:ext cx="857736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55680" y="1260360"/>
              <a:ext cx="833904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7 Rectángulo"/>
          <p:cNvSpPr/>
          <p:nvPr/>
        </p:nvSpPr>
        <p:spPr>
          <a:xfrm>
            <a:off x="2111040" y="189000"/>
            <a:ext cx="450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  <a:ea typeface="Arial"/>
              </a:rPr>
              <a:t>SUBASTA BANDA 900 MHz y 1900 MH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s://encrypted-tbn2.gstatic.com/images?q=tbn:ANd9GcTTysqwGIx8J4hCJZWvz5Zp4xXguq-WsCbqjt6KzO02WJeatVbhvw"/>
          <p:cNvPicPr/>
          <p:nvPr/>
        </p:nvPicPr>
        <p:blipFill>
          <a:blip r:embed="rId3"/>
          <a:stretch/>
        </p:blipFill>
        <p:spPr>
          <a:xfrm>
            <a:off x="352440" y="4446720"/>
            <a:ext cx="1555560" cy="1555560"/>
          </a:xfrm>
          <a:prstGeom prst="rect">
            <a:avLst/>
          </a:prstGeom>
          <a:ln w="0">
            <a:noFill/>
          </a:ln>
        </p:spPr>
      </p:pic>
      <p:sp>
        <p:nvSpPr>
          <p:cNvPr id="145" name="13 Rectángulo redondeado"/>
          <p:cNvSpPr/>
          <p:nvPr/>
        </p:nvSpPr>
        <p:spPr>
          <a:xfrm>
            <a:off x="426960" y="1628640"/>
            <a:ext cx="829008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Deben estar relacionadas directamente con la prestación del servicio y evitar establecer obligaciones que deben estar soportadas en la regulación de carácter ge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4 Rectángulo redondeado"/>
          <p:cNvSpPr/>
          <p:nvPr/>
        </p:nvSpPr>
        <p:spPr>
          <a:xfrm>
            <a:off x="2266920" y="2852640"/>
            <a:ext cx="6697800" cy="381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De igual manera en las recomendaciones de la OECD, no sólo se sugiere a Colombia, evitar “</a:t>
            </a:r>
            <a:r>
              <a:rPr b="0" i="1" lang="es-CO" sz="2200" spc="-1" strike="noStrike">
                <a:solidFill>
                  <a:srgbClr val="000000"/>
                </a:solidFill>
                <a:latin typeface="Calibri"/>
              </a:rPr>
              <a:t>procedimientos arbitrarios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”, para la asignación de espectro, sino que adicionalmente recomendó expresamente tanto al Ministerio, como a la ANE que: </a:t>
            </a:r>
            <a:r>
              <a:rPr b="1" i="1" lang="es-CO" sz="2200" spc="-1" strike="noStrike">
                <a:solidFill>
                  <a:srgbClr val="000000"/>
                </a:solidFill>
                <a:latin typeface="Calibri"/>
              </a:rPr>
              <a:t>“(…) Han de reducirse al mínimo las condiciones vinculadas a su asignación, como las obligaciones de cobertura excesivas o requisitos de proporcionar tabletas, para evitar distorsiones en el diseño de la subasta</a:t>
            </a:r>
            <a:r>
              <a:rPr b="0" i="1" lang="es-CO" sz="2200" spc="-1" strike="noStrike">
                <a:solidFill>
                  <a:srgbClr val="000000"/>
                </a:solidFill>
                <a:latin typeface="Calibri"/>
              </a:rPr>
              <a:t> (…)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9 Rectángulo redondeado"/>
          <p:cNvGrpSpPr/>
          <p:nvPr/>
        </p:nvGrpSpPr>
        <p:grpSpPr>
          <a:xfrm>
            <a:off x="444600" y="944640"/>
            <a:ext cx="8400960" cy="639720"/>
            <a:chOff x="444600" y="944640"/>
            <a:chExt cx="8400960" cy="639720"/>
          </a:xfrm>
        </p:grpSpPr>
        <p:pic>
          <p:nvPicPr>
            <p:cNvPr id="148" name="9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444600" y="944640"/>
              <a:ext cx="84009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19120" y="1015920"/>
              <a:ext cx="82519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Roaming Automático Na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4 Rectángulo redondeado"/>
          <p:cNvGrpSpPr/>
          <p:nvPr/>
        </p:nvGrpSpPr>
        <p:grpSpPr>
          <a:xfrm>
            <a:off x="237960" y="1163520"/>
            <a:ext cx="8577360" cy="1408320"/>
            <a:chOff x="237960" y="1163520"/>
            <a:chExt cx="8577360" cy="1408320"/>
          </a:xfrm>
        </p:grpSpPr>
        <p:pic>
          <p:nvPicPr>
            <p:cNvPr id="151" name="4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237960" y="1163520"/>
              <a:ext cx="857736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55680" y="1260360"/>
              <a:ext cx="833904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7 Rectángulo"/>
          <p:cNvSpPr/>
          <p:nvPr/>
        </p:nvSpPr>
        <p:spPr>
          <a:xfrm>
            <a:off x="2111040" y="189000"/>
            <a:ext cx="450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  <a:ea typeface="Arial"/>
              </a:rPr>
              <a:t>SUBASTA BANDA 900 MHz y 1900 MH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3 Rectángulo redondeado"/>
          <p:cNvSpPr/>
          <p:nvPr/>
        </p:nvSpPr>
        <p:spPr>
          <a:xfrm>
            <a:off x="395280" y="1590840"/>
            <a:ext cx="3968640" cy="4646520"/>
          </a:xfrm>
          <a:custGeom>
            <a:avLst/>
            <a:gdLst>
              <a:gd name="textAreaLeft" fmla="*/ 193680 w 3968640"/>
              <a:gd name="textAreaRight" fmla="*/ 3774960 w 3968640"/>
              <a:gd name="textAreaTop" fmla="*/ 193680 h 4646520"/>
              <a:gd name="textAreaBottom" fmla="*/ 4452840 h 4646520"/>
            </a:gdLst>
            <a:ahLst/>
            <a:rect l="textAreaLeft" t="textAreaTop" r="textAreaRight" b="textAreaBottom"/>
            <a:pathLst>
              <a:path w="21600" h="25289">
                <a:moveTo>
                  <a:pt x="3600" y="0"/>
                </a:moveTo>
                <a:arcTo wR="3600" hR="3600" stAng="16200000" swAng="-5400000"/>
                <a:lnTo>
                  <a:pt x="0" y="21689"/>
                </a:lnTo>
                <a:arcTo wR="3600" hR="3600" stAng="10800000" swAng="-5400000"/>
                <a:lnTo>
                  <a:pt x="18000" y="252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Falta de coherencia entre las restricciones de acceso al recurso a ciertos operadores y obligaciones de compartición activa como RAN, por cuanto no existe recurso suficiente que permita soportar  la carga adicional derivada de este tipo de fac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4 Rectángulo redondeado"/>
          <p:cNvSpPr/>
          <p:nvPr/>
        </p:nvSpPr>
        <p:spPr>
          <a:xfrm>
            <a:off x="4702320" y="1628640"/>
            <a:ext cx="4233600" cy="4824720"/>
          </a:xfrm>
          <a:custGeom>
            <a:avLst/>
            <a:gdLst>
              <a:gd name="textAreaLeft" fmla="*/ 206640 w 4233600"/>
              <a:gd name="textAreaRight" fmla="*/ 4026960 w 4233600"/>
              <a:gd name="textAreaTop" fmla="*/ 206640 h 4824720"/>
              <a:gd name="textAreaBottom" fmla="*/ 4618080 h 4824720"/>
            </a:gdLst>
            <a:ahLst/>
            <a:rect l="textAreaLeft" t="textAreaTop" r="textAreaRight" b="textAreaBottom"/>
            <a:pathLst>
              <a:path w="21600" h="24616">
                <a:moveTo>
                  <a:pt x="3600" y="0"/>
                </a:moveTo>
                <a:arcTo wR="3600" hR="3600" stAng="16200000" swAng="-5400000"/>
                <a:lnTo>
                  <a:pt x="0" y="21016"/>
                </a:lnTo>
                <a:arcTo wR="3600" hR="3600" stAng="10800000" swAng="-5400000"/>
                <a:lnTo>
                  <a:pt x="18000" y="246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ada usuario que se conecta a la red aumenta la interferencia generando un impacto directo sobre las condiciones de carga y disponibilidad de recursos, lo cual no resulta favorable si se tiene en cuenta la disponibilidad de espec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9:59:55Z</dcterms:created>
  <dc:creator>Jaime Alexander Rosiascos Jimenez</dc:creator>
  <dc:description/>
  <dc:language>en-US</dc:language>
  <cp:lastModifiedBy>Santiago Pardo Fajardo</cp:lastModifiedBy>
  <dcterms:modified xsi:type="dcterms:W3CDTF">2014-11-27T13:38:37Z</dcterms:modified>
  <cp:revision>196</cp:revision>
  <dc:subject/>
  <dc:title>Presentación de PowerPoint</dc:title>
</cp:coreProperties>
</file>